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F666-E47A-413C-AB53-5006C0267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FD10-46DC-4AF0-9BC1-79BF0352E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D959-486D-4460-B804-898589317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1C52-DEE5-450C-B9A2-0152512BF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6D972-107C-4B4E-BB0F-3404E501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6244B-3C94-427E-8A9A-DF992F1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775E1-9F93-4FE3-8715-4EBF2E5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B17FF-2A16-4D16-BDB1-604470EF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00229-5ADE-4020-A774-03B9877D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B49CF-9FB5-4828-83A6-F6F3900B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AB407-C1F2-4AAF-BBFE-FDD7389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B5E4-88F2-4955-BC02-F088645CF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47365-A3EB-4189-BAB5-9651297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8AA23-4E62-4EC4-92FA-91CE9AF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2EE75-EA01-40F7-847B-8C95D5CB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4B3C6-C392-4A15-B1EE-3776FE48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B405D-FA24-42D4-A210-1BF9CC09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B3A5-2136-4AA0-A21D-D9AAE884AC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93F3A-ECBF-485D-87D1-79243ECF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C99F3-0DA4-4C03-B3A5-C5BCC8B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10F10-AB82-4F85-8C37-92BB0895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EBEA-20F3-40F8-A9BB-FB1A582F2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BDB1C-F2D7-4930-B01C-B2BAB980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A9AAE-9ED5-425A-BD79-ADBAB558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3235E-B343-4BEA-8BA1-C93E3EC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E2089-1530-489D-BCE4-4D5DC91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46685-491A-47CA-AD7F-3A65806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E5258-3912-40F1-9C8B-9477C5E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8FEEC-B823-4940-8D22-A6C2D11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088B2-A8FE-4C0C-9A3D-12B5F182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BF215-53EC-479C-AA2A-EF908D2F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D1FAF-41A8-4335-BE32-CCE719D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D7A7-EB4B-4F68-9032-FBD3C84EAC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553C3-1000-46A8-B253-E21D5FF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4C7AC-D064-4E76-BBD3-3B29A66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992FB-51DD-4C99-A336-5C0FC30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24680-55F1-4D84-A353-59C980D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96EEE-6849-430E-B2A2-25AEFAE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B15AE0-B2F8-4064-A218-5BF63C35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CD685-9DE5-4DCF-81C7-CC8F63E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09F6E-0B74-4F03-815A-EB6D884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2D168-3DFE-45C8-9CAB-53B05882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75AF2-14E9-419E-B4FE-88227A16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3958-F8A8-4B97-9CD5-9C0D6957EF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A73A69-064F-435D-B4B9-57FC7B1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E5781-2737-4F5E-BBE6-57BAB8CD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E816E7-71F7-4B65-849D-1CFE4F3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33298-2C2B-4E8F-A27F-7CE5CC4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EF27D7-C704-4696-8F00-999CC2F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C70F5A-B5A1-4070-B266-AD6B0B35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84A1C-716F-4A8E-A68C-399E7D6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2013D4-DF88-4727-869E-ADE4738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B6233-00FA-4844-9133-16FA9E3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185D6C-127D-4E07-9998-C7FF683A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C7A7-D02C-40B0-86EB-B2DC8D6484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9627C-1FAB-4601-BBEB-AF1B95F4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D84979-E183-4218-A29E-F4A09CC6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42A7BC-ACF8-427A-BFAB-9ED1E498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0B6A4-0B88-4259-8C95-31B497CB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4B3E6-E233-4398-88C3-354A745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40A7AE-BE54-4DAC-B5B1-DBBF51B7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A3220C-C5FB-427B-9E7F-8004C36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C82627-E677-48A8-A50B-38474FF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32B775-21A6-4FAD-9724-54920465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13CC7-3C6B-40C7-BF6A-028DCB9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3B5E-494D-4ADF-B225-3D19528DE22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04EEF-741D-4E9B-9CA4-7C63B13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FC3F2-2EC3-41D8-BCD1-E7F3E55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961F2E-3DD8-41C6-B2FB-F8A9EEE8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6D0E7-940B-440A-BF65-59774AB6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AC4C8-EB54-42A6-8A93-D0031B51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8B7C5-2F99-44C4-8666-03D282E9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40A7D-8623-43A2-8A20-51DF3C00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8D196-82AD-4801-B24D-0B254709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F4288-7A40-4D86-8338-3F310D6F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C01056-C68C-4BD4-9F37-0F88AEA6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BF44-B290-4B36-85BD-D6F76ACAFA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0E0E3-DCB6-45E4-8D38-AC64472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3D1D1-3D66-4461-8B27-DD93B34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D96E50-3955-43C5-857B-B97AAECB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844D4F-3F3C-434D-B3F8-90F6B0C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773FD-839C-468C-8415-26E9A7A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D7718A-72D6-4EB7-99B1-6727B02F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A2C234-F5DA-4CFC-9E75-D558249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/>
            <a:ahLst/>
            <a:rect l="l" t="t" r="r" b="b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/>
            <a:ahLst/>
            <a:rect l="l" t="t" r="r" b="b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/>
            <a:ahLst/>
            <a:rect l="l" t="t" r="r" b="b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DCDB-7D48-4F1A-A383-0F8E4CAE43D1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B8E-8DC9-4D16-9B76-4A18A11202F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/>
            <a:ahLst/>
            <a:rect l="l" t="t" r="r" b="b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/>
            <a:ahLst/>
            <a:rect l="l" t="t" r="r" b="b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708-C324-4F57-90F2-73B2E57CADB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02D-9C25-4DD5-82D3-F4091D412B9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5a6378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33B9-1919-4E1B-98D2-EA324C54D145}" type="slidenum">
              <a:rPr b="0" lang="ru-RU" sz="16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C27F-E908-4E58-880C-B802D28C8F5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66c7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60b5c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D2F-32C4-4593-A66C-5825C424748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900000" y="4647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  <a:ea typeface="Tunga"/>
              </a:rPr>
              <a:t>БЮДЖЕТ ДЛЯ ГРАЖДАН</a:t>
            </a:r>
            <a:endParaRPr b="1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826920" y="414972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К проекту решения Думы Шишкинского сельского по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«О бюджете Шишкинского сельского поселения на 2018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и на плановый период 2019 и 2020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4" descr="C:\Users\Стас\Pictures\Герб.png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632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Franklin Gothic Medium"/>
              </a:rPr>
              <a:t>ОСНОВНЫЕ ЦЕЛИ БЮДЖЕТНОЙ ПОЛИТИКИ НА 2018 – 2020 ГОДЫ</a:t>
            </a:r>
            <a:endParaRPr b="0" lang="en-US" sz="3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4360" y="1916280"/>
          <a:ext cx="8351640" cy="227304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75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e66c7d"/>
                      </a:solidFill>
                    </a:lnL>
                    <a:lnR w="5760">
                      <a:solidFill>
                        <a:srgbClr val="e66c7d"/>
                      </a:solidFill>
                    </a:lnR>
                    <a:lnT w="5760">
                      <a:solidFill>
                        <a:srgbClr val="e66c7d"/>
                      </a:solidFill>
                    </a:lnT>
                    <a:lnB w="5760">
                      <a:solidFill>
                        <a:srgbClr val="e66c7d"/>
                      </a:solidFill>
                    </a:lnB>
                    <a:gradFill rotWithShape="0">
                      <a:gsLst>
                        <a:gs pos="0">
                          <a:srgbClr val="ffd25d"/>
                        </a:gs>
                        <a:gs pos="50000">
                          <a:srgbClr val="ffffff"/>
                        </a:gs>
                        <a:gs pos="100000">
                          <a:srgbClr val="ffd25d"/>
                        </a:gs>
                      </a:gsLst>
                      <a:lin ang="5400000"/>
                    </a:gradFill>
                  </a:tcPr>
                </a:tc>
              </a:tr>
              <a:tr h="75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e66c7d"/>
                      </a:solidFill>
                    </a:lnL>
                    <a:lnR w="5760">
                      <a:solidFill>
                        <a:srgbClr val="e66c7d"/>
                      </a:solidFill>
                    </a:lnR>
                    <a:lnT w="5760">
                      <a:solidFill>
                        <a:srgbClr val="e66c7d"/>
                      </a:solidFill>
                    </a:lnT>
                    <a:lnB w="5760">
                      <a:solidFill>
                        <a:srgbClr val="e66c7d"/>
                      </a:solidFill>
                    </a:lnB>
                    <a:gradFill rotWithShape="0">
                      <a:gsLst>
                        <a:gs pos="0">
                          <a:srgbClr val="ffd25d"/>
                        </a:gs>
                        <a:gs pos="50000">
                          <a:srgbClr val="ffffff"/>
                        </a:gs>
                        <a:gs pos="100000">
                          <a:srgbClr val="ffd25d"/>
                        </a:gs>
                      </a:gsLst>
                      <a:lin ang="5400000"/>
                    </a:gradFill>
                  </a:tcPr>
                </a:tc>
              </a:tr>
              <a:tr h="75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e66c7d"/>
                      </a:solidFill>
                    </a:lnL>
                    <a:lnR w="5760">
                      <a:solidFill>
                        <a:srgbClr val="e66c7d"/>
                      </a:solidFill>
                    </a:lnR>
                    <a:lnT w="5760">
                      <a:solidFill>
                        <a:srgbClr val="e66c7d"/>
                      </a:solidFill>
                    </a:lnT>
                    <a:lnB w="5760">
                      <a:solidFill>
                        <a:srgbClr val="e66c7d"/>
                      </a:solidFill>
                    </a:lnB>
                    <a:gradFill rotWithShape="0">
                      <a:gsLst>
                        <a:gs pos="0">
                          <a:srgbClr val="ffd25d"/>
                        </a:gs>
                        <a:gs pos="50000">
                          <a:srgbClr val="ffffff"/>
                        </a:gs>
                        <a:gs pos="100000">
                          <a:srgbClr val="ffd25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349" name="Picture 54" descr="C:\Users\Стас\Pictures\Герб.png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8160" y="9360"/>
            <a:ext cx="896292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СБАЛАНСИРОВАННОСТЬ БЮДЖЕТ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193"/>
              </a:gs>
              <a:gs pos="100000">
                <a:srgbClr val="fff0c9"/>
              </a:gs>
            </a:gsLst>
            <a:lin ang="5400000"/>
          </a:gra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0c04"/>
                </a:solidFill>
                <a:latin typeface="Franklin Gothic Book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Franklin Gothic Book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Franklin Gothic Book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Franklin Gothic Book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Группа 19"/>
          <p:cNvGrpSpPr/>
          <p:nvPr/>
        </p:nvGrpSpPr>
        <p:grpSpPr>
          <a:xfrm>
            <a:off x="681120" y="2852640"/>
            <a:ext cx="2592360" cy="1739880"/>
            <a:chOff x="681120" y="2852640"/>
            <a:chExt cx="2592360" cy="1739880"/>
          </a:xfrm>
        </p:grpSpPr>
        <p:sp>
          <p:nvSpPr>
            <p:cNvPr id="361" name="TextBox 17"/>
            <p:cNvSpPr/>
            <p:nvPr/>
          </p:nvSpPr>
          <p:spPr>
            <a:xfrm>
              <a:off x="681120" y="2852640"/>
              <a:ext cx="25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18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 815,5          2 815,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Левая фигурная скобка 18"/>
            <p:cNvSpPr/>
            <p:nvPr/>
          </p:nvSpPr>
          <p:spPr>
            <a:xfrm rot="16200000">
              <a:off x="1815840" y="3136680"/>
              <a:ext cx="382680" cy="1871640"/>
            </a:xfrm>
            <a:custGeom>
              <a:avLst/>
              <a:gdLst>
                <a:gd name="textAreaLeft" fmla="*/ 244440 w 382680"/>
                <a:gd name="textAreaRight" fmla="*/ 383040 w 38268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0c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0"/>
          <p:cNvGrpSpPr/>
          <p:nvPr/>
        </p:nvGrpSpPr>
        <p:grpSpPr>
          <a:xfrm>
            <a:off x="3349800" y="3005280"/>
            <a:ext cx="2592360" cy="1739880"/>
            <a:chOff x="3349800" y="3005280"/>
            <a:chExt cx="2592360" cy="1739880"/>
          </a:xfrm>
        </p:grpSpPr>
        <p:sp>
          <p:nvSpPr>
            <p:cNvPr id="364" name="TextBox 21"/>
            <p:cNvSpPr/>
            <p:nvPr/>
          </p:nvSpPr>
          <p:spPr>
            <a:xfrm>
              <a:off x="3349800" y="3005280"/>
              <a:ext cx="25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19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 961,4          2 961,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Левая фигурная скобка 22"/>
            <p:cNvSpPr/>
            <p:nvPr/>
          </p:nvSpPr>
          <p:spPr>
            <a:xfrm rot="16200000">
              <a:off x="4510080" y="332388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7"/>
                  </a:cubicBezTo>
                  <a:lnTo>
                    <a:pt x="10800" y="10433"/>
                  </a:lnTo>
                  <a:cubicBezTo>
                    <a:pt x="10800" y="10617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7"/>
                  </a:cubicBezTo>
                  <a:lnTo>
                    <a:pt x="10800" y="21233"/>
                  </a:lnTo>
                  <a:cubicBezTo>
                    <a:pt x="10800" y="2141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0c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Группа 23"/>
          <p:cNvGrpSpPr/>
          <p:nvPr/>
        </p:nvGrpSpPr>
        <p:grpSpPr>
          <a:xfrm>
            <a:off x="6261120" y="3346560"/>
            <a:ext cx="2592360" cy="1739880"/>
            <a:chOff x="6261120" y="3346560"/>
            <a:chExt cx="2592360" cy="1739880"/>
          </a:xfrm>
        </p:grpSpPr>
        <p:sp>
          <p:nvSpPr>
            <p:cNvPr id="367" name="TextBox 24"/>
            <p:cNvSpPr/>
            <p:nvPr/>
          </p:nvSpPr>
          <p:spPr>
            <a:xfrm>
              <a:off x="6261120" y="3346560"/>
              <a:ext cx="2592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0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 247,7          3 247,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Левая фигурная скобка 25"/>
            <p:cNvSpPr/>
            <p:nvPr/>
          </p:nvSpPr>
          <p:spPr>
            <a:xfrm rot="16200000">
              <a:off x="7360920" y="36302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0c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Скругленный прямоугольник 26"/>
          <p:cNvSpPr/>
          <p:nvPr/>
        </p:nvSpPr>
        <p:spPr>
          <a:xfrm>
            <a:off x="433440" y="5805360"/>
            <a:ext cx="83534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25d"/>
              </a:gs>
              <a:gs pos="50000">
                <a:srgbClr val="ffffff"/>
              </a:gs>
              <a:gs pos="100000">
                <a:srgbClr val="ffd25d"/>
              </a:gs>
            </a:gsLst>
            <a:lin ang="5400000"/>
          </a:gra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0c04"/>
                </a:solidFill>
                <a:latin typeface="Franklin Gothic Book"/>
              </a:rPr>
              <a:t>Источником покрытия дефицита бюджета  являются остатки средств  бюджета сельского поселения предыдуще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4" descr="C:\Users\Стас\Pictures\Герб.png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Franklin Gothic Medium"/>
              </a:rPr>
              <a:t>ДОХОДЫ БЮДЖЕТА СЕЛЬСКОГО ПОСЕЛЕНИЯ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0932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Прямоугольник 4"/>
          <p:cNvSpPr/>
          <p:nvPr/>
        </p:nvSpPr>
        <p:spPr>
          <a:xfrm>
            <a:off x="3724200" y="3751200"/>
            <a:ext cx="2244960" cy="2098800"/>
          </a:xfrm>
          <a:prstGeom prst="rect">
            <a:avLst/>
          </a:prstGeom>
          <a:gradFill rotWithShape="0">
            <a:gsLst>
              <a:gs pos="0">
                <a:srgbClr val="ff9ca9"/>
              </a:gs>
              <a:gs pos="100000">
                <a:srgbClr val="ffe2e5"/>
              </a:gs>
            </a:gsLst>
            <a:lin ang="16200000"/>
          </a:gradFill>
          <a:ln w="9360">
            <a:solidFill>
              <a:srgbClr val="e4667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платежи от предоставления государством различных видов услуг, продажи имущества, а также иные платежи в виде штрафов, санкций за нарушение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5"/>
          <p:cNvSpPr/>
          <p:nvPr/>
        </p:nvSpPr>
        <p:spPr>
          <a:xfrm>
            <a:off x="5969160" y="3751200"/>
            <a:ext cx="2347920" cy="1190520"/>
          </a:xfrm>
          <a:prstGeom prst="rect">
            <a:avLst/>
          </a:prstGeom>
          <a:gradFill rotWithShape="0">
            <a:gsLst>
              <a:gs pos="0">
                <a:srgbClr val="ff9ca9"/>
              </a:gs>
              <a:gs pos="100000">
                <a:srgbClr val="ffe2e5"/>
              </a:gs>
            </a:gsLst>
            <a:lin ang="16200000"/>
          </a:gradFill>
          <a:ln w="9360">
            <a:solidFill>
              <a:srgbClr val="e4667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 бюджет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gradFill rotWithShape="0">
            <a:gsLst>
              <a:gs pos="0">
                <a:srgbClr val="ff9ca9"/>
              </a:gs>
              <a:gs pos="100000">
                <a:srgbClr val="ffe2e5"/>
              </a:gs>
            </a:gsLst>
            <a:lin ang="16200000"/>
          </a:gradFill>
          <a:ln w="9360">
            <a:solidFill>
              <a:srgbClr val="e4667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все налоги, поступление которых предусмотрено налоговым законодательством, пени и штрафы, взимаемые за нарушение налог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6"/>
          <p:cNvSpPr/>
          <p:nvPr/>
        </p:nvSpPr>
        <p:spPr>
          <a:xfrm>
            <a:off x="2050920" y="257652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Franklin Gothic Book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Franklin Gothic Book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Franklin Gothic Book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4" descr="C:\Users\Стас\Pictures\Герб.png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120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ООБРАЗУЮЩИЕ (ОСНОВНЫЕ) НАЛОГИ  БЮДЖЕТА СЕЛЬСКОГО ПОСЕЛЕНИЯ НА 2018 - 2020 ГОДЫ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87" name="Диаграмма 1" descr=""/>
          <p:cNvPicPr/>
          <p:nvPr/>
        </p:nvPicPr>
        <p:blipFill>
          <a:blip r:embed="rId1"/>
          <a:stretch/>
        </p:blipFill>
        <p:spPr>
          <a:xfrm>
            <a:off x="344520" y="1649520"/>
            <a:ext cx="8534520" cy="5092560"/>
          </a:xfrm>
          <a:prstGeom prst="rect">
            <a:avLst/>
          </a:prstGeom>
          <a:ln w="0">
            <a:noFill/>
          </a:ln>
        </p:spPr>
      </p:pic>
      <p:sp>
        <p:nvSpPr>
          <p:cNvPr id="388" name="Стрелка вниз 2"/>
          <p:cNvSpPr/>
          <p:nvPr/>
        </p:nvSpPr>
        <p:spPr>
          <a:xfrm>
            <a:off x="2340000" y="1268280"/>
            <a:ext cx="107964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трелка вниз 5"/>
          <p:cNvSpPr/>
          <p:nvPr/>
        </p:nvSpPr>
        <p:spPr>
          <a:xfrm>
            <a:off x="5867280" y="1341360"/>
            <a:ext cx="1224000" cy="436680"/>
          </a:xfrm>
          <a:prstGeom prst="downArrow">
            <a:avLst>
              <a:gd name="adj1" fmla="val 49880"/>
              <a:gd name="adj2" fmla="val 62181"/>
            </a:avLst>
          </a:prstGeom>
          <a:solidFill>
            <a:srgbClr val="f0ad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4" descr="C:\Users\Стас\Pictures\Герб.png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Medium"/>
              </a:rPr>
              <a:t>СТРУКТУРА НАЛОГОВЫХ И НЕНАЛОГОВЫХ ДОХОДОВ  БЮДЖЕТА  ШИШКИНСКОГО СЕЛЬСКОГО ПОСЕ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92" name="Object 4" descr=""/>
          <p:cNvPicPr/>
          <p:nvPr/>
        </p:nvPicPr>
        <p:blipFill>
          <a:blip r:embed="rId1"/>
          <a:stretch/>
        </p:blipFill>
        <p:spPr>
          <a:xfrm>
            <a:off x="1987560" y="1593720"/>
            <a:ext cx="6924600" cy="34322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/>
          <p:cNvSpPr/>
          <p:nvPr/>
        </p:nvSpPr>
        <p:spPr>
          <a:xfrm>
            <a:off x="2340000" y="187488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611280" y="5373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1332000" y="58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6665760" y="1989000"/>
            <a:ext cx="2374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- 104,1 тыс.руб. (24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107,5 тыс.руб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111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7010280" y="1413000"/>
            <a:ext cx="1594080" cy="461880"/>
          </a:xfrm>
          <a:prstGeom prst="rect">
            <a:avLst/>
          </a:prstGeom>
          <a:solidFill>
            <a:srgbClr val="ffd2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ДФ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108000" y="141300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логовые и неналог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оходы (всег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108000" y="1989000"/>
            <a:ext cx="2016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 -441,7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455,3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470,3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108000" y="3716280"/>
            <a:ext cx="1727280" cy="384120"/>
          </a:xfrm>
          <a:prstGeom prst="rect">
            <a:avLst/>
          </a:prstGeom>
          <a:solidFill>
            <a:srgbClr val="4792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0" y="4221000"/>
            <a:ext cx="2556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- 167 тыс.руб. (38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170,3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172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0"/>
          <p:cNvSpPr/>
          <p:nvPr/>
        </p:nvSpPr>
        <p:spPr>
          <a:xfrm>
            <a:off x="3833640" y="1413000"/>
            <a:ext cx="1783080" cy="461880"/>
          </a:xfrm>
          <a:prstGeom prst="rect">
            <a:avLst/>
          </a:prstGeom>
          <a:solidFill>
            <a:srgbClr val="cf5b1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сударств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ш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"/>
          <p:cNvSpPr/>
          <p:nvPr/>
        </p:nvSpPr>
        <p:spPr>
          <a:xfrm>
            <a:off x="3851280" y="1925640"/>
            <a:ext cx="237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- 10 тыс.руб. (2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10,4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10,9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4" descr="C:\Users\Стас\Pictures\Герб.png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ая соединительная линия 2"/>
          <p:cNvSpPr/>
          <p:nvPr/>
        </p:nvSpPr>
        <p:spPr>
          <a:xfrm flipH="1">
            <a:off x="5940360" y="1644480"/>
            <a:ext cx="1069920" cy="10638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5"/>
          <p:cNvSpPr/>
          <p:nvPr/>
        </p:nvSpPr>
        <p:spPr>
          <a:xfrm>
            <a:off x="3924360" y="1874880"/>
            <a:ext cx="431640" cy="83340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10"/>
          <p:cNvSpPr/>
          <p:nvPr/>
        </p:nvSpPr>
        <p:spPr>
          <a:xfrm flipV="1">
            <a:off x="1835280" y="3659040"/>
            <a:ext cx="1008000" cy="30024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13"/>
          <p:cNvSpPr/>
          <p:nvPr/>
        </p:nvSpPr>
        <p:spPr>
          <a:xfrm>
            <a:off x="2446200" y="4821120"/>
            <a:ext cx="2279880" cy="505080"/>
          </a:xfrm>
          <a:prstGeom prst="rect">
            <a:avLst/>
          </a:prstGeom>
          <a:solidFill>
            <a:srgbClr val="9a313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Налог на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физическ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4"/>
          <p:cNvSpPr/>
          <p:nvPr/>
        </p:nvSpPr>
        <p:spPr>
          <a:xfrm>
            <a:off x="2460600" y="5667480"/>
            <a:ext cx="22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- 25,6 тыс.руб. (6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26,7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30,4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16"/>
          <p:cNvSpPr/>
          <p:nvPr/>
        </p:nvSpPr>
        <p:spPr>
          <a:xfrm flipH="1">
            <a:off x="3585960" y="3959280"/>
            <a:ext cx="122040" cy="861840"/>
          </a:xfrm>
          <a:prstGeom prst="line">
            <a:avLst/>
          </a:prstGeom>
          <a:ln w="936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32"/>
          <p:cNvSpPr/>
          <p:nvPr/>
        </p:nvSpPr>
        <p:spPr>
          <a:xfrm>
            <a:off x="6665760" y="4137120"/>
            <a:ext cx="1486080" cy="504720"/>
          </a:xfrm>
          <a:prstGeom prst="rect">
            <a:avLst/>
          </a:prstGeom>
          <a:solidFill>
            <a:srgbClr val="246172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Franklin Gothic Book"/>
              </a:rPr>
              <a:t>ЕСХ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4"/>
          <p:cNvSpPr/>
          <p:nvPr/>
        </p:nvSpPr>
        <p:spPr>
          <a:xfrm>
            <a:off x="6545160" y="5032440"/>
            <a:ext cx="22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18 год- 135 тыс.руб. (3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19 год- 140,4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020 год- 146 тыс.ру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Franklin Gothic Medium"/>
              </a:rPr>
              <a:t>РАСХОДЫ БЮДЖЕТА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сходы бюджета – выплачиваемые из бюджета денежные средств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Объём расходов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определяется исходя из объёма средств, необходимых для исполнения установленных законодательством полномочий органов власти сельского поселения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Расходы бюджета сельского поселени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классифицируются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 разделам и подразделам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04040"/>
                </a:solidFill>
                <a:latin typeface="Franklin Gothic Book"/>
              </a:rPr>
              <a:t>•</a:t>
            </a:r>
            <a:r>
              <a:rPr b="1" lang="ru-RU" sz="1800" spc="-1" strike="noStrike">
                <a:solidFill>
                  <a:srgbClr val="404040"/>
                </a:solidFill>
                <a:latin typeface="Franklin Gothic Book"/>
              </a:rPr>
              <a:t>по главным распорядителям средств бюджета сельского поселения;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Franklin Gothic Book"/>
              </a:rPr>
              <a:t>	</a:t>
            </a:r>
            <a:r>
              <a:rPr b="1" lang="ru-RU" sz="1800" spc="-1" strike="noStrike">
                <a:solidFill>
                  <a:srgbClr val="404040"/>
                </a:solidFill>
                <a:latin typeface="Franklin Gothic Book"/>
              </a:rPr>
              <a:t>•</a:t>
            </a:r>
            <a:r>
              <a:rPr b="1" lang="ru-RU" sz="1800" spc="-1" strike="noStrike">
                <a:solidFill>
                  <a:srgbClr val="404040"/>
                </a:solidFill>
                <a:latin typeface="Franklin Gothic Book"/>
              </a:rPr>
              <a:t>по муниципальным программам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54" descr="C:\Users\Стас\Pictures\Герб.png"/>
          <p:cNvPicPr/>
          <p:nvPr/>
        </p:nvPicPr>
        <p:blipFill>
          <a:blip r:embed="rId1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Диаграмма 2" descr=""/>
          <p:cNvPicPr/>
          <p:nvPr/>
        </p:nvPicPr>
        <p:blipFill>
          <a:blip r:embed="rId1"/>
          <a:stretch/>
        </p:blipFill>
        <p:spPr>
          <a:xfrm>
            <a:off x="-50760" y="1146240"/>
            <a:ext cx="9245520" cy="492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Medium"/>
              </a:rPr>
              <a:t>СТРУКТУРА РАСХОДОВ БЮДЖЕТА ШИШКИНСКОГО СЕЛЬСКОГО ПОСЕЛЕНИЯ В 2018 ГОДУ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18" name="Picture 54" descr="C:\Users\Стас\Pictures\Герб.png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Чусовитина Лидия Дмитриевна</cp:lastModifiedBy>
  <cp:lastPrinted>2016-10-31T10:55:42Z</cp:lastPrinted>
  <dcterms:modified xsi:type="dcterms:W3CDTF">2017-11-13T03:39:27Z</dcterms:modified>
  <cp:revision>163</cp:revision>
  <dc:subject/>
  <dc:title>Слайд 1</dc:title>
</cp:coreProperties>
</file>